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D1A1-C379-4060-92A8-B493177B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6A0-655B-4738-B865-7D2D82AC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31D9-A79C-4B7F-B5FB-99C1B037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gible outcome of the CoP particption was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ED3-CC84-4BF9-B219-A59E45BB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E55-3985-4687-9514-DD4AB4D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B5B-EBD2-4176-BBF2-C279DC85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6CA-D84F-4451-B87F-BF5A212C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5AB-03EB-4F8B-8DAF-1E1C8F7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698-C4AB-4D43-87D4-32AB5951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FCF-1C62-4C6C-966E-CB91584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3E9-4722-46B3-8D5E-F7EC170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F69-91C2-4D56-8B82-AD17C130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821-6A7A-46E3-AD48-9DADB1F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460-B105-41FF-B9A2-B6F51F3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2E8-E71D-4CF0-9DF7-EC8028A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28C8-CA5A-49D9-B3CA-5A8B0880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husar@wustl.ed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rhusar@wustl.edu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EO Air Quality Community of Practice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Q CoP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Air Quality Projects | GEO Air Quality CoP.png"/>
          <p:cNvPicPr/>
          <p:nvPr/>
        </p:nvPicPr>
        <p:blipFill>
          <a:blip r:embed="rId1"/>
          <a:srcRect l="0" t="0" r="0" b="80887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" y="594360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of Contact: Rudolf Husar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husar@wustl.edu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209680" y="3581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fit into GEO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h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-09-01b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chitecture Implementation Pilot (AIP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nd Using the GEOSS Common Infrastructure (GC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Screen shot 2009-10-26 at 9.13.42 PM.png"/>
          <p:cNvPicPr/>
          <p:nvPr/>
        </p:nvPicPr>
        <p:blipFill>
          <a:blip r:embed="rId1"/>
          <a:srcRect l="10687" t="16667" r="57151" b="72992"/>
          <a:stretch/>
        </p:blipFill>
        <p:spPr>
          <a:xfrm>
            <a:off x="2438280" y="4038480"/>
            <a:ext cx="654048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11" descr="Screen shot 2009-10-26 at 9.13.42 PM.png"/>
          <p:cNvPicPr/>
          <p:nvPr/>
        </p:nvPicPr>
        <p:blipFill>
          <a:blip r:embed="rId2"/>
          <a:srcRect l="0" t="36810" r="52088" b="42002"/>
          <a:stretch/>
        </p:blipFill>
        <p:spPr>
          <a:xfrm>
            <a:off x="2438280" y="1447920"/>
            <a:ext cx="609624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Box 5"/>
          <p:cNvSpPr/>
          <p:nvPr/>
        </p:nvSpPr>
        <p:spPr>
          <a:xfrm>
            <a:off x="3581280" y="3276720"/>
            <a:ext cx="3733920" cy="520560"/>
          </a:xfrm>
          <a:prstGeom prst="rect">
            <a:avLst/>
          </a:prstGeom>
          <a:solidFill>
            <a:srgbClr val="cccccc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arch Fac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057400" y="40384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267080" y="40384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6781680" y="4038480"/>
            <a:ext cx="1067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8001000" y="403848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259092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6248520" y="251460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1"/>
          <p:cNvCxnSpPr>
            <a:stCxn id="154" idx="1"/>
            <a:endCxn id="155" idx="0"/>
          </p:cNvCxnSpPr>
          <p:nvPr/>
        </p:nvCxnSpPr>
        <p:spPr>
          <a:xfrm flipH="1">
            <a:off x="2894760" y="3537360"/>
            <a:ext cx="68652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22"/>
          <p:cNvCxnSpPr>
            <a:stCxn id="154" idx="0"/>
            <a:endCxn id="159" idx="2"/>
          </p:cNvCxnSpPr>
          <p:nvPr/>
        </p:nvCxnSpPr>
        <p:spPr>
          <a:xfrm flipH="1" flipV="1">
            <a:off x="3657240" y="2990520"/>
            <a:ext cx="17913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Straight Arrow Connector 23"/>
          <p:cNvCxnSpPr>
            <a:stCxn id="154" idx="3"/>
            <a:endCxn id="158" idx="0"/>
          </p:cNvCxnSpPr>
          <p:nvPr/>
        </p:nvCxnSpPr>
        <p:spPr>
          <a:xfrm>
            <a:off x="7314840" y="3538080"/>
            <a:ext cx="12582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24"/>
          <p:cNvCxnSpPr>
            <a:stCxn id="154" idx="3"/>
            <a:endCxn id="157" idx="0"/>
          </p:cNvCxnSpPr>
          <p:nvPr/>
        </p:nvCxnSpPr>
        <p:spPr>
          <a:xfrm>
            <a:off x="7315200" y="353808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25"/>
          <p:cNvCxnSpPr>
            <a:stCxn id="154" idx="2"/>
            <a:endCxn id="156" idx="0"/>
          </p:cNvCxnSpPr>
          <p:nvPr/>
        </p:nvCxnSpPr>
        <p:spPr>
          <a:xfrm flipH="1">
            <a:off x="5105160" y="3800160"/>
            <a:ext cx="343440" cy="23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42"/>
          <p:cNvCxnSpPr>
            <a:stCxn id="154" idx="0"/>
            <a:endCxn id="160" idx="2"/>
          </p:cNvCxnSpPr>
          <p:nvPr/>
        </p:nvCxnSpPr>
        <p:spPr>
          <a:xfrm flipV="1">
            <a:off x="5447160" y="2914560"/>
            <a:ext cx="1639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" name="TextBox 17"/>
          <p:cNvSpPr/>
          <p:nvPr/>
        </p:nvSpPr>
        <p:spPr>
          <a:xfrm>
            <a:off x="1066680" y="6324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is facilitated by the GEOSS Common 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304920" y="1981080"/>
            <a:ext cx="1828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7" descr=""/>
          <p:cNvPicPr/>
          <p:nvPr/>
        </p:nvPicPr>
        <p:blipFill>
          <a:blip r:embed="rId1"/>
          <a:stretch/>
        </p:blipFill>
        <p:spPr>
          <a:xfrm>
            <a:off x="2514600" y="1946160"/>
            <a:ext cx="5477040" cy="2909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173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7"/>
          <p:cNvSpPr/>
          <p:nvPr/>
        </p:nvSpPr>
        <p:spPr>
          <a:xfrm>
            <a:off x="6413760" y="42721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O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6446880" y="362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7"/>
          <p:cNvSpPr/>
          <p:nvPr/>
        </p:nvSpPr>
        <p:spPr>
          <a:xfrm>
            <a:off x="6436800" y="292896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ards,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6431040" y="23335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.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3124080" y="2286000"/>
            <a:ext cx="6019920" cy="533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User Requirement Registry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ontent Placeholder 4" descr="GEOSS URR Brochure.png"/>
          <p:cNvPicPr/>
          <p:nvPr/>
        </p:nvPicPr>
        <p:blipFill>
          <a:blip r:embed="rId1"/>
          <a:srcRect l="-13260" t="0" r="-13260" b="0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914400" y="3962520"/>
            <a:ext cx="7543800" cy="2590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429000" y="5943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User Requirement Registry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n EPA Contract with 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by Analyst Consul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role for the AQ CoP in contributing to UR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7" descr=""/>
          <p:cNvPicPr/>
          <p:nvPr/>
        </p:nvPicPr>
        <p:blipFill>
          <a:blip r:embed="rId1"/>
          <a:stretch/>
        </p:blipFill>
        <p:spPr>
          <a:xfrm>
            <a:off x="2505240" y="1946160"/>
            <a:ext cx="5486400" cy="291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59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7" descr=""/>
          <p:cNvPicPr/>
          <p:nvPr/>
        </p:nvPicPr>
        <p:blipFill>
          <a:blip r:embed="rId1"/>
          <a:stretch/>
        </p:blipFill>
        <p:spPr>
          <a:xfrm>
            <a:off x="2505240" y="1946160"/>
            <a:ext cx="5486400" cy="29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94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7"/>
          <p:cNvSpPr/>
          <p:nvPr/>
        </p:nvSpPr>
        <p:spPr>
          <a:xfrm>
            <a:off x="6413760" y="42721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O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7"/>
          <p:cNvSpPr/>
          <p:nvPr/>
        </p:nvSpPr>
        <p:spPr>
          <a:xfrm>
            <a:off x="6446880" y="362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7"/>
          <p:cNvSpPr/>
          <p:nvPr/>
        </p:nvSpPr>
        <p:spPr>
          <a:xfrm>
            <a:off x="6436800" y="292896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ards,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6431040" y="23335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.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16200000">
            <a:off x="-1252080" y="4071960"/>
            <a:ext cx="441936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operability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72624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4038480" y="4495680"/>
            <a:ext cx="2286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s Serv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C W*S, netCDF-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886200" y="2286000"/>
            <a:ext cx="2514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, Video, emai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8862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RSS/Atom, Social, Wi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909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7057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 flipH="1">
            <a:off x="1980360" y="2666520"/>
            <a:ext cx="252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Straight Arrow Connector 12"/>
          <p:cNvCxnSpPr/>
          <p:nvPr/>
        </p:nvCxnSpPr>
        <p:spPr>
          <a:xfrm flipH="1">
            <a:off x="2057040" y="5105520"/>
            <a:ext cx="2160" cy="653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Straight Arrow Connector 13"/>
          <p:cNvCxnSpPr/>
          <p:nvPr/>
        </p:nvCxnSpPr>
        <p:spPr>
          <a:xfrm flipH="1">
            <a:off x="2057040" y="3809520"/>
            <a:ext cx="216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Rectangle 2"/>
          <p:cNvSpPr/>
          <p:nvPr/>
        </p:nvSpPr>
        <p:spPr>
          <a:xfrm>
            <a:off x="533520" y="4572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for Connecting:</a:t>
            </a:r>
            <a:br>
              <a:rPr sz="2400"/>
            </a:b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Machin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 CoP Character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AQ Cop is 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project o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unded by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entr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3200400"/>
            <a:ext cx="77724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: Use exis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sue original scope and mandate of th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e sharable resources fro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te in collabor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AQ CoP A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520" y="1143000"/>
            <a:ext cx="7467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CoP Participation in GE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-09-01b: Development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unities of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-09-01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 for Earth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-09-01b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itecture Implementation Pilot (A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-09-02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el Evalu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04920" y="320040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&amp; Coordination Activities, 2009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09: Session on AQ and GEOSS, ISRSE, Stresa, Italy (Hus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09:  AQ Community Infrastructure, ESIP, Santa Barbara, CA, US (McC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 2009: AQ Side Meeting at GEO-VI Plenary, Wash. DC, US (McCabe, Kea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0: GEO Decision Support Concept Proposal (Fal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10: AQ Participation in the GEOSS AIP 2,3. (Falke, Robinson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: Telecons, Wiki workspace (Falke,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 CoP Active Particip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80880" y="1295280"/>
            <a:ext cx="830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Decker, FZ Julich; Oleg Goussev (DLR); Kari Hoijarvi, WUSTL; Erin Robinson, WUSTL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or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Falke, NGC; Dave McCabe, EPA/CAC); Frank Lindsey, NASA; Rudy Husar, WUSTL; Martin Shulz, FZ Juelich 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cy Executiv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Foley, EPA; Terry Keating, EPA; Lawrence Friedl, NASA 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of Contact: Rudolf Husar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husar@wustl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-CoP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nteraction through the open, participatory websi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Air Quality Projects | GEO Air Quality CoP.png"/>
          <p:cNvPicPr/>
          <p:nvPr/>
        </p:nvPicPr>
        <p:blipFill>
          <a:blip r:embed="rId1"/>
          <a:srcRect l="0" t="0" r="0" b="17241"/>
          <a:stretch/>
        </p:blipFill>
        <p:spPr>
          <a:xfrm>
            <a:off x="0" y="1447920"/>
            <a:ext cx="9144000" cy="3700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3733920" y="5410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4:47:50Z</dcterms:created>
  <dc:creator>s</dc:creator>
  <dc:description/>
  <dc:language>en-US</dc:language>
  <cp:lastModifiedBy>Rudy Husar</cp:lastModifiedBy>
  <cp:lastPrinted>2010-06-14T12:53:42Z</cp:lastPrinted>
  <dcterms:modified xsi:type="dcterms:W3CDTF">2010-07-21T17:12:25Z</dcterms:modified>
  <cp:revision>190</cp:revision>
  <dc:subject/>
  <dc:title>Slide 1</dc:title>
</cp:coreProperties>
</file>